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4FC-784E-40B6-B5EF-D9EBF63F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788-9FD5-41C0-A11E-C519F63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961-8875-4A1E-B86F-2781F64B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8C1-F25C-49AA-AE9C-A95B0F49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7DB2-E93B-472E-A3C4-B6C84B1B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1128-B25E-4E8F-8C34-956ECE3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248-81D7-44AA-940F-E2BD0DA0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EF47-34CC-46E6-B757-FB3FBDF6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4CDF-C9E8-4F32-B50F-3538DA30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FC26-7D00-4F2F-923E-E6C03CB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3B4-F5E6-48C8-AF04-A455219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A4F-D5F2-441B-BAEE-CC62E581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5E96-DBC4-4B4A-9FE7-A39732BA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F7D3-0D53-46DE-83CF-A6261428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A37A-2319-49D3-9E5A-5811777C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2EBC-924A-48AF-935F-66F98060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1CD1-7666-4FF3-84B3-2FCF4423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28F-5421-4E9E-811F-0BA0402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117-C069-4094-8697-03B5C115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A06-418B-44A0-8F24-EB68CFA4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527-C60B-4EB7-A24D-6F74A94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1E3-B0FB-4B51-AC04-4DC2471A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6EE-1ACC-4194-A953-C560C67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D4E-F597-47F7-B42C-A00CE0A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CDB9-AA47-46F2-9BC0-4FEF46B8C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B05-010A-4ED1-9AB3-5E2EF7900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Edwardian Script ITC"/>
              </a:rPr>
              <a:t>Mi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6095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Por: marialycia gue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943600" cy="405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pis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31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piscina es grande mode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572000" cy="3039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38680" y="4395960"/>
            <a:ext cx="3276720" cy="2462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00200" y="4229280"/>
            <a:ext cx="3943440" cy="26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209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garaje es estupe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66880" y="2662200"/>
            <a:ext cx="6229440" cy="419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jadin es viejo e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1944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429000" y="3765600"/>
            <a:ext cx="4648320" cy="309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an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2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mansion es grande e mor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2200320"/>
            <a:ext cx="6324840" cy="46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87160" y="1601280"/>
            <a:ext cx="2971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cocina. La cocina es pequena y moder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4080" y="2003400"/>
            <a:ext cx="6019920" cy="4854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124080" y="2092320"/>
            <a:ext cx="6019920" cy="4765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14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medor. El comedor es fabuloso  y boni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fine dining design stylish modern interior decoration 1 Choose your dining room table"/>
          <p:cNvPicPr/>
          <p:nvPr/>
        </p:nvPicPr>
        <p:blipFill>
          <a:blip r:embed="rId1"/>
          <a:stretch/>
        </p:blipFill>
        <p:spPr>
          <a:xfrm>
            <a:off x="297180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213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ala. La sala es lujoso y bel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green modern living room renovations and cool design"/>
          <p:cNvPicPr/>
          <p:nvPr/>
        </p:nvPicPr>
        <p:blipFill>
          <a:blip r:embed="rId1"/>
          <a:stretch/>
        </p:blipFill>
        <p:spPr>
          <a:xfrm>
            <a:off x="2438280" y="2390760"/>
            <a:ext cx="6705720" cy="446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22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uarto. El cuarto es morderno 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2801880"/>
            <a:ext cx="6172200" cy="405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971800" y="2803680"/>
            <a:ext cx="6172200" cy="405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fabulous teenage bedroom decor designs"/>
          <p:cNvPicPr/>
          <p:nvPr/>
        </p:nvPicPr>
        <p:blipFill>
          <a:blip r:embed="rId3"/>
          <a:stretch/>
        </p:blipFill>
        <p:spPr>
          <a:xfrm>
            <a:off x="2971800" y="2825640"/>
            <a:ext cx="6172200" cy="403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895480" y="2523960"/>
            <a:ext cx="6248520" cy="433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31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uarto es pequena y nue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9520" y="2455920"/>
            <a:ext cx="6324480" cy="440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601280"/>
            <a:ext cx="2631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año. El baño es bello y lujo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2851200"/>
            <a:ext cx="6172200" cy="4006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pequena y magnif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892160"/>
            <a:ext cx="5562360" cy="4965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14600" y="188604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5:04:20Z</dcterms:created>
  <dc:creator>guedesmar</dc:creator>
  <dc:description/>
  <dc:language>en-US</dc:language>
  <cp:lastModifiedBy>guedesmar</cp:lastModifiedBy>
  <dcterms:modified xsi:type="dcterms:W3CDTF">2012-11-21T13:03:16Z</dcterms:modified>
  <cp:revision>8</cp:revision>
  <dc:subject/>
  <dc:title>Mi casa</dc:title>
</cp:coreProperties>
</file>